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2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8-19T19:09:49.125000000" idx="1">
    <p:pos x="1479" y="628"/>
    <p:text/>
  </p:cm>
</p:cmLst>
</file>

<file path=ppt/comments/comment18.xml><?xml version="1.0" encoding="utf-8"?>
<p:cmLst xmlns:p="http://schemas.openxmlformats.org/presentationml/2006/main">
  <p:cm authorId="0" dt="2016-08-19T19:09:57.954000000" idx="2">
    <p:pos x="5103" y="48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7481-E145-4A27-8316-6A14167DC2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CB42-3026-473D-8698-13E16D5807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5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方向与路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3419640" y="3406680"/>
            <a:ext cx="4681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3294000" y="254016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识简单线路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5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1501920" y="2852640"/>
            <a:ext cx="62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军军从家出发先向北偏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5°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骑到商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向南偏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°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骑到图书大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向北偏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骑到公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72280" y="75888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9" name="矩形 10"/>
          <p:cNvSpPr/>
          <p:nvPr/>
        </p:nvSpPr>
        <p:spPr>
          <a:xfrm>
            <a:off x="1357200" y="1741320"/>
            <a:ext cx="5735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明放学回家先向东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到府琛广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向北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到海洋大酒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着向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向北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到巢湖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向西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到金城花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到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"/>
          <p:cNvSpPr/>
          <p:nvPr/>
        </p:nvSpPr>
        <p:spPr>
          <a:xfrm rot="18297600">
            <a:off x="6960960" y="3363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对象 24" descr=""/>
          <p:cNvPicPr/>
          <p:nvPr/>
        </p:nvPicPr>
        <p:blipFill>
          <a:blip r:embed="rId3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449280" y="4554360"/>
            <a:ext cx="2120760" cy="1648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4"/>
          <p:cNvSpPr/>
          <p:nvPr/>
        </p:nvSpPr>
        <p:spPr>
          <a:xfrm>
            <a:off x="1550880" y="319248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偏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°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JSS2.EPS" descr="id:2147500492;FounderCES"/>
          <p:cNvPicPr/>
          <p:nvPr/>
        </p:nvPicPr>
        <p:blipFill>
          <a:blip r:embed="rId5"/>
          <a:stretch/>
        </p:blipFill>
        <p:spPr>
          <a:xfrm>
            <a:off x="3203640" y="3762360"/>
            <a:ext cx="3313080" cy="2440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1085760" y="2770200"/>
            <a:ext cx="679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述回家路线问题的易错点是描述方向或角度。易错原因是不能构建平面图上的方向和角度。改正方法是先找准观测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确定方向和角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49280" y="4554360"/>
            <a:ext cx="2120760" cy="164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JSS2.EPS" descr="id:2147500492;FounderCES"/>
          <p:cNvPicPr/>
          <p:nvPr/>
        </p:nvPicPr>
        <p:blipFill>
          <a:blip r:embed="rId1"/>
          <a:stretch/>
        </p:blipFill>
        <p:spPr>
          <a:xfrm>
            <a:off x="3073320" y="966960"/>
            <a:ext cx="3313080" cy="24382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5"/>
          <p:cNvSpPr/>
          <p:nvPr/>
        </p:nvSpPr>
        <p:spPr>
          <a:xfrm rot="18297600">
            <a:off x="5952960" y="49903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0"/>
          <p:cNvSpPr/>
          <p:nvPr/>
        </p:nvSpPr>
        <p:spPr>
          <a:xfrm rot="18297600">
            <a:off x="6242040" y="2747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5"/>
          <p:cNvSpPr/>
          <p:nvPr/>
        </p:nvSpPr>
        <p:spPr>
          <a:xfrm>
            <a:off x="3348000" y="3494160"/>
            <a:ext cx="22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偏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°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6"/>
          <p:cNvSpPr/>
          <p:nvPr/>
        </p:nvSpPr>
        <p:spPr>
          <a:xfrm>
            <a:off x="3348000" y="4718160"/>
            <a:ext cx="22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偏西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°</a:t>
            </a:r>
            <a:r>
              <a:rPr b="0" lang="zh-CN" sz="2800" spc="-1" strike="noStrike">
                <a:solidFill>
                  <a:srgbClr val="7030a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836640"/>
            <a:ext cx="2520720" cy="1579680"/>
          </a:xfrm>
          <a:prstGeom prst="rect">
            <a:avLst/>
          </a:prstGeom>
          <a:ln w="0">
            <a:noFill/>
          </a:ln>
        </p:spPr>
      </p:pic>
      <p:sp>
        <p:nvSpPr>
          <p:cNvPr id="18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7"/>
          <p:cNvSpPr/>
          <p:nvPr/>
        </p:nvSpPr>
        <p:spPr>
          <a:xfrm>
            <a:off x="1116000" y="443700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火车站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邮局，再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游泳馆，再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少年宫，再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电影院，再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动物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3484440" y="441324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4772160" y="4452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A36.EPS" descr="id:2147500469;FounderCES"/>
          <p:cNvPicPr/>
          <p:nvPr/>
        </p:nvPicPr>
        <p:blipFill>
          <a:blip r:embed="rId2"/>
          <a:stretch/>
        </p:blipFill>
        <p:spPr>
          <a:xfrm>
            <a:off x="1476360" y="1771560"/>
            <a:ext cx="604188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1"/>
          <p:cNvSpPr/>
          <p:nvPr/>
        </p:nvSpPr>
        <p:spPr>
          <a:xfrm>
            <a:off x="7761240" y="44528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1735200" y="4826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000760" y="4844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4"/>
          <p:cNvSpPr/>
          <p:nvPr/>
        </p:nvSpPr>
        <p:spPr>
          <a:xfrm>
            <a:off x="6443640" y="48639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5"/>
          <p:cNvSpPr/>
          <p:nvPr/>
        </p:nvSpPr>
        <p:spPr>
          <a:xfrm>
            <a:off x="2987640" y="534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6"/>
          <p:cNvSpPr/>
          <p:nvPr/>
        </p:nvSpPr>
        <p:spPr>
          <a:xfrm>
            <a:off x="1898640" y="534528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6454800" y="522936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7885080" y="53323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861840" y="360684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火车站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妇婴医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邮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着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商场。然后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啤酒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啤酒厂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公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4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大修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348000" y="3624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2627280" y="536724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B02.EPS" descr="id:2147500529;FounderCES"/>
          <p:cNvPicPr/>
          <p:nvPr/>
        </p:nvPicPr>
        <p:blipFill>
          <a:blip r:embed="rId1"/>
          <a:stretch/>
        </p:blipFill>
        <p:spPr>
          <a:xfrm>
            <a:off x="2916360" y="1136520"/>
            <a:ext cx="4319640" cy="2340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1"/>
          <p:cNvSpPr/>
          <p:nvPr/>
        </p:nvSpPr>
        <p:spPr>
          <a:xfrm>
            <a:off x="5167440" y="3624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188136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9"/>
          <p:cNvSpPr/>
          <p:nvPr/>
        </p:nvSpPr>
        <p:spPr>
          <a:xfrm>
            <a:off x="3564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7164360" y="4013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1"/>
          <p:cNvSpPr/>
          <p:nvPr/>
        </p:nvSpPr>
        <p:spPr>
          <a:xfrm>
            <a:off x="1525680" y="4422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5327640" y="44226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7020000" y="4495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4518000" y="4878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6105600" y="48499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6"/>
          <p:cNvSpPr/>
          <p:nvPr/>
        </p:nvSpPr>
        <p:spPr>
          <a:xfrm>
            <a:off x="4011480" y="53672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7"/>
          <p:cNvSpPr/>
          <p:nvPr/>
        </p:nvSpPr>
        <p:spPr>
          <a:xfrm>
            <a:off x="6516720" y="535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20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1116000" y="450864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兔去小熊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家出发先向正东方向走到草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接着向南偏东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°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走到森林广场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然后向正东方向走到小山坡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小山坡向北偏东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5°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走到石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向北偏西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°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走到小熊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274760" y="17208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兔去小熊家该怎样走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A38.EPS" descr="id:2147500550;FounderCES"/>
          <p:cNvPicPr/>
          <p:nvPr/>
        </p:nvPicPr>
        <p:blipFill>
          <a:blip r:embed="rId2"/>
          <a:stretch/>
        </p:blipFill>
        <p:spPr>
          <a:xfrm>
            <a:off x="2459160" y="2344680"/>
            <a:ext cx="4147920" cy="187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29" name="矩形 22"/>
          <p:cNvSpPr/>
          <p:nvPr/>
        </p:nvSpPr>
        <p:spPr>
          <a:xfrm>
            <a:off x="888840" y="4106880"/>
            <a:ext cx="749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甜品屋出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向北走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到电影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甜品屋出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到街心花园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到电影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甜品屋出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到花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到书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向北走到电影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4713120" y="4098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布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A42.EPS" descr="id:2147500638;FounderCES"/>
          <p:cNvPicPr/>
          <p:nvPr/>
        </p:nvPicPr>
        <p:blipFill>
          <a:blip r:embed="rId2"/>
          <a:stretch/>
        </p:blipFill>
        <p:spPr>
          <a:xfrm>
            <a:off x="2868480" y="1660680"/>
            <a:ext cx="3997440" cy="2216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6443640" y="40989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911760" y="4775040"/>
            <a:ext cx="12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159680" y="479916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4014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6767640" y="55483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3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620640" y="414864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汽车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间经过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汽车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间经过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食品厂乘车去第二医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汽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坐火车来到该城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去眼镜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在火车站乘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汽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下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换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汽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站到眼镜厂下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A43.EPS" descr="id:2147500652;FounderCES"/>
          <p:cNvPicPr/>
          <p:nvPr/>
        </p:nvPicPr>
        <p:blipFill>
          <a:blip r:embed="rId2"/>
          <a:stretch/>
        </p:blipFill>
        <p:spPr>
          <a:xfrm>
            <a:off x="1835280" y="1660680"/>
            <a:ext cx="5118120" cy="2143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2468520" y="3956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水苑小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630840" y="395604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36920" y="43862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公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62200" y="43815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火车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222800" y="3956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董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213600" y="438156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5372280" y="46483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451640" y="467532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993600" y="5445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119400" y="54450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4303800" y="543240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广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6894360" y="545148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258920" y="580248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59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到了哪些知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6012000" y="1413000"/>
            <a:ext cx="2627280" cy="1008000"/>
            <a:chOff x="6012000" y="1413000"/>
            <a:chExt cx="2627280" cy="1008000"/>
          </a:xfrm>
        </p:grpSpPr>
        <p:sp>
          <p:nvSpPr>
            <p:cNvPr id="262" name="AutoShape 27"/>
            <p:cNvSpPr/>
            <p:nvPr/>
          </p:nvSpPr>
          <p:spPr>
            <a:xfrm>
              <a:off x="6012000" y="1413000"/>
              <a:ext cx="2627280" cy="1008000"/>
            </a:xfrm>
            <a:prstGeom prst="wedgeRoundRectCallout">
              <a:avLst>
                <a:gd name="adj1" fmla="val -73111"/>
                <a:gd name="adj2" fmla="val 24425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17"/>
            <p:cNvSpPr/>
            <p:nvPr/>
          </p:nvSpPr>
          <p:spPr>
            <a:xfrm>
              <a:off x="6012000" y="1413000"/>
              <a:ext cx="2593080" cy="9471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定要找准观测点呦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6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矩形 21"/>
          <p:cNvSpPr/>
          <p:nvPr/>
        </p:nvSpPr>
        <p:spPr>
          <a:xfrm>
            <a:off x="755640" y="3645000"/>
            <a:ext cx="7777080" cy="1008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选择乘车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但要考虑自己的目的地是否在这条线路上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还要考虑自己所行线路的走向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若背道而行则会走很多弯路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4"/>
          <p:cNvSpPr/>
          <p:nvPr/>
        </p:nvSpPr>
        <p:spPr>
          <a:xfrm>
            <a:off x="755640" y="5373720"/>
            <a:ext cx="7777080" cy="520560"/>
          </a:xfrm>
          <a:prstGeom prst="rect">
            <a:avLst/>
          </a:prstGeom>
          <a:solidFill>
            <a:srgbClr val="6dff44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决乘车问题应注意每到一个转折点需要重新确定观测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11280" y="2924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读懂简单的平面示意图，会测量角并用角度描述物体所在的方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77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读平面示意图，用角度描述物体所在的方向的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11280" y="41497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用平面示意图表示事物和用角度描述物体方向的作用，发展空间观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3780000" y="5300640"/>
            <a:ext cx="3528360" cy="1010520"/>
            <a:chOff x="3780000" y="5300640"/>
            <a:chExt cx="3528360" cy="1010520"/>
          </a:xfrm>
        </p:grpSpPr>
        <p:sp>
          <p:nvSpPr>
            <p:cNvPr id="60" name="未知"/>
            <p:cNvSpPr/>
            <p:nvPr/>
          </p:nvSpPr>
          <p:spPr>
            <a:xfrm>
              <a:off x="3780000" y="5300640"/>
              <a:ext cx="331272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4140000" y="5546880"/>
              <a:ext cx="31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99"/>
                  </a:solidFill>
                  <a:latin typeface="Calibri"/>
                  <a:ea typeface="华文新魏"/>
                </a:rPr>
                <a:t>回顾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" name="Picture 7" descr="图片4"/>
          <p:cNvPicPr/>
          <p:nvPr/>
        </p:nvPicPr>
        <p:blipFill>
          <a:blip r:embed="rId1"/>
          <a:stretch/>
        </p:blipFill>
        <p:spPr>
          <a:xfrm>
            <a:off x="7164360" y="4797360"/>
            <a:ext cx="15048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2268360" y="765000"/>
            <a:ext cx="4606920" cy="4608360"/>
            <a:chOff x="2268360" y="765000"/>
            <a:chExt cx="4606920" cy="4608360"/>
          </a:xfrm>
        </p:grpSpPr>
        <p:sp>
          <p:nvSpPr>
            <p:cNvPr id="64" name="Oval 9"/>
            <p:cNvSpPr/>
            <p:nvPr/>
          </p:nvSpPr>
          <p:spPr>
            <a:xfrm>
              <a:off x="2268360" y="765000"/>
              <a:ext cx="4606920" cy="4608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2645640" y="1142640"/>
              <a:ext cx="3848040" cy="3849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3727800" y="2341080"/>
              <a:ext cx="1563120" cy="15620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AutoShape 12"/>
          <p:cNvSpPr/>
          <p:nvPr/>
        </p:nvSpPr>
        <p:spPr>
          <a:xfrm>
            <a:off x="4421160" y="2276640"/>
            <a:ext cx="222120" cy="9921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13"/>
          <p:cNvSpPr/>
          <p:nvPr/>
        </p:nvSpPr>
        <p:spPr>
          <a:xfrm flipV="1">
            <a:off x="4421160" y="3268080"/>
            <a:ext cx="222120" cy="99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268520" y="134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4260600" y="4260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823840" y="29192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5702040" y="2852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8"/>
          <p:cNvSpPr/>
          <p:nvPr/>
        </p:nvSpPr>
        <p:spPr>
          <a:xfrm rot="2891400">
            <a:off x="5132520" y="1964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东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9"/>
          <p:cNvSpPr/>
          <p:nvPr/>
        </p:nvSpPr>
        <p:spPr>
          <a:xfrm rot="19279800">
            <a:off x="5013720" y="386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东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0"/>
          <p:cNvSpPr/>
          <p:nvPr/>
        </p:nvSpPr>
        <p:spPr>
          <a:xfrm rot="18733800">
            <a:off x="3087720" y="1965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西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1"/>
          <p:cNvSpPr/>
          <p:nvPr/>
        </p:nvSpPr>
        <p:spPr>
          <a:xfrm rot="2458800">
            <a:off x="3350160" y="393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西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468360" y="5661000"/>
            <a:ext cx="1403280" cy="647640"/>
            <a:chOff x="468360" y="5661000"/>
            <a:chExt cx="1403280" cy="647640"/>
          </a:xfrm>
        </p:grpSpPr>
        <p:grpSp>
          <p:nvGrpSpPr>
            <p:cNvPr id="78" name="Group 23"/>
            <p:cNvGrpSpPr/>
            <p:nvPr/>
          </p:nvGrpSpPr>
          <p:grpSpPr>
            <a:xfrm>
              <a:off x="503280" y="5661000"/>
              <a:ext cx="1368360" cy="647640"/>
              <a:chOff x="503280" y="5661000"/>
              <a:chExt cx="1368360" cy="647640"/>
            </a:xfrm>
          </p:grpSpPr>
          <p:sp>
            <p:nvSpPr>
              <p:cNvPr id="79" name="Oval 24">
                <a:hlinkClick r:id="rId2" action="ppaction://hlinksldjump"/>
              </p:cNvPr>
              <p:cNvSpPr/>
              <p:nvPr/>
            </p:nvSpPr>
            <p:spPr>
              <a:xfrm>
                <a:off x="503280" y="5661000"/>
                <a:ext cx="13683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e181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0" name="Picture 25" descr="fish031s"/>
              <p:cNvPicPr/>
              <p:nvPr/>
            </p:nvPicPr>
            <p:blipFill>
              <a:blip r:embed="rId3"/>
              <a:stretch/>
            </p:blipFill>
            <p:spPr>
              <a:xfrm>
                <a:off x="873000" y="5734080"/>
                <a:ext cx="5652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Oval 26">
              <a:hlinkClick r:id="rId4" action="ppaction://hlinksldjump"/>
            </p:cNvPr>
            <p:cNvSpPr/>
            <p:nvPr/>
          </p:nvSpPr>
          <p:spPr>
            <a:xfrm>
              <a:off x="468360" y="5661000"/>
              <a:ext cx="140328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同侧圆角矩形 6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57280" y="2997360"/>
            <a:ext cx="3023640" cy="2952720"/>
            <a:chOff x="557280" y="2997360"/>
            <a:chExt cx="3023640" cy="2952720"/>
          </a:xfrm>
        </p:grpSpPr>
        <p:sp>
          <p:nvSpPr>
            <p:cNvPr id="85" name="Rectangle 5"/>
            <p:cNvSpPr/>
            <p:nvPr/>
          </p:nvSpPr>
          <p:spPr>
            <a:xfrm>
              <a:off x="844200" y="3286440"/>
              <a:ext cx="2447640" cy="24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844200" y="3286440"/>
              <a:ext cx="2447640" cy="24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7"/>
            <p:cNvSpPr/>
            <p:nvPr/>
          </p:nvSpPr>
          <p:spPr>
            <a:xfrm flipV="1">
              <a:off x="844200" y="3286080"/>
              <a:ext cx="2447640" cy="23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557280" y="2997360"/>
              <a:ext cx="647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2933280" y="299736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557280" y="5302440"/>
              <a:ext cx="647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2933280" y="530244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1707840" y="4222800"/>
              <a:ext cx="647280" cy="64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3851280" y="2781360"/>
            <a:ext cx="5271840" cy="3022200"/>
            <a:chOff x="3851280" y="2781360"/>
            <a:chExt cx="5271840" cy="3022200"/>
          </a:xfrm>
        </p:grpSpPr>
        <p:sp>
          <p:nvSpPr>
            <p:cNvPr id="94" name="Text Box 14"/>
            <p:cNvSpPr/>
            <p:nvPr/>
          </p:nvSpPr>
          <p:spPr>
            <a:xfrm>
              <a:off x="3851280" y="2781360"/>
              <a:ext cx="527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①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东南面涂红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15"/>
            <p:cNvSpPr/>
            <p:nvPr/>
          </p:nvSpPr>
          <p:spPr>
            <a:xfrm>
              <a:off x="4738680" y="3566880"/>
              <a:ext cx="35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②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东北面涂黄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16"/>
            <p:cNvSpPr/>
            <p:nvPr/>
          </p:nvSpPr>
          <p:spPr>
            <a:xfrm>
              <a:off x="4738680" y="4352760"/>
              <a:ext cx="35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③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西南面涂绿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4769640" y="5160960"/>
              <a:ext cx="34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④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西北面涂蓝色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4912560" y="2938680"/>
              <a:ext cx="368640" cy="39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4912560" y="3733200"/>
              <a:ext cx="368640" cy="39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912560" y="4525560"/>
              <a:ext cx="368640" cy="397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4912560" y="5320440"/>
              <a:ext cx="368640" cy="39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Rectangle 22"/>
          <p:cNvSpPr/>
          <p:nvPr/>
        </p:nvSpPr>
        <p:spPr>
          <a:xfrm>
            <a:off x="2933640" y="5300640"/>
            <a:ext cx="64764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2933640" y="2997360"/>
            <a:ext cx="6476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557280" y="5300640"/>
            <a:ext cx="64764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557280" y="2997360"/>
            <a:ext cx="64764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484360" y="1773360"/>
            <a:ext cx="2465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涂一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7" name="Picture 3" descr="F:\七彩课堂插图板式封面\排版用图标、页眉页脚\标题图（终-排版用）共29个\预习指导.jpg"/>
          <p:cNvPicPr/>
          <p:nvPr/>
        </p:nvPicPr>
        <p:blipFill>
          <a:blip r:embed="rId6"/>
          <a:stretch/>
        </p:blipFill>
        <p:spPr>
          <a:xfrm>
            <a:off x="5796000" y="83664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31433" t="0" r="0" b="0"/>
          <a:stretch/>
        </p:blipFill>
        <p:spPr>
          <a:xfrm>
            <a:off x="6659640" y="765000"/>
            <a:ext cx="1728720" cy="1579680"/>
          </a:xfrm>
          <a:prstGeom prst="rect">
            <a:avLst/>
          </a:prstGeom>
          <a:ln w="0">
            <a:noFill/>
          </a:ln>
        </p:spPr>
      </p:pic>
      <p:sp>
        <p:nvSpPr>
          <p:cNvPr id="110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8436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某城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公共汽车的行车线路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JSS1.EPS" descr="id:2147500434;FounderCES"/>
          <p:cNvPicPr/>
          <p:nvPr/>
        </p:nvPicPr>
        <p:blipFill>
          <a:blip r:embed="rId2"/>
          <a:stretch/>
        </p:blipFill>
        <p:spPr>
          <a:xfrm>
            <a:off x="755640" y="2995560"/>
            <a:ext cx="7048440" cy="28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31433" t="0" r="0" b="0"/>
          <a:stretch/>
        </p:blipFill>
        <p:spPr>
          <a:xfrm>
            <a:off x="6588000" y="836640"/>
            <a:ext cx="1729080" cy="1579680"/>
          </a:xfrm>
          <a:prstGeom prst="rect">
            <a:avLst/>
          </a:prstGeom>
          <a:ln w="0">
            <a:noFill/>
          </a:ln>
        </p:spPr>
      </p:pic>
      <p:sp>
        <p:nvSpPr>
          <p:cNvPr id="1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4"/>
          <p:cNvGrpSpPr/>
          <p:nvPr/>
        </p:nvGrpSpPr>
        <p:grpSpPr>
          <a:xfrm>
            <a:off x="4775040" y="2762280"/>
            <a:ext cx="3953160" cy="1820880"/>
            <a:chOff x="4775040" y="2762280"/>
            <a:chExt cx="3953160" cy="1820880"/>
          </a:xfrm>
        </p:grpSpPr>
        <p:pic>
          <p:nvPicPr>
            <p:cNvPr id="118" name="Picture 100" descr="81"/>
            <p:cNvPicPr/>
            <p:nvPr/>
          </p:nvPicPr>
          <p:blipFill>
            <a:blip r:embed="rId2"/>
            <a:stretch/>
          </p:blipFill>
          <p:spPr>
            <a:xfrm>
              <a:off x="7464600" y="278280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27"/>
            <p:cNvSpPr/>
            <p:nvPr/>
          </p:nvSpPr>
          <p:spPr>
            <a:xfrm>
              <a:off x="4775040" y="2762280"/>
              <a:ext cx="2665080" cy="15822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 </a:t>
              </a: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公共汽车是从火车站开往文化宫</a:t>
              </a: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5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公共汽车是从火车站开往体育馆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2"/>
          <p:cNvGrpSpPr/>
          <p:nvPr/>
        </p:nvGrpSpPr>
        <p:grpSpPr>
          <a:xfrm>
            <a:off x="246240" y="1898640"/>
            <a:ext cx="4378320" cy="2035080"/>
            <a:chOff x="246240" y="1898640"/>
            <a:chExt cx="4378320" cy="2035080"/>
          </a:xfrm>
        </p:grpSpPr>
        <p:pic>
          <p:nvPicPr>
            <p:cNvPr id="121" name="Picture 69" descr="80"/>
            <p:cNvPicPr/>
            <p:nvPr/>
          </p:nvPicPr>
          <p:blipFill>
            <a:blip r:embed="rId3"/>
            <a:stretch/>
          </p:blipFill>
          <p:spPr>
            <a:xfrm>
              <a:off x="246240" y="2133000"/>
              <a:ext cx="1593720" cy="18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27"/>
            <p:cNvSpPr/>
            <p:nvPr/>
          </p:nvSpPr>
          <p:spPr>
            <a:xfrm>
              <a:off x="1730160" y="1898640"/>
              <a:ext cx="2894400" cy="1531080"/>
            </a:xfrm>
            <a:prstGeom prst="wedgeRoundRectCallout">
              <a:avLst>
                <a:gd name="adj1" fmla="val -61893"/>
                <a:gd name="adj2" fmla="val -16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蓝色线是</a:t>
              </a: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公共汽车的行车路线</a:t>
              </a: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红色线是</a:t>
              </a: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公共汽车的行车路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3"/>
          <p:cNvGrpSpPr/>
          <p:nvPr/>
        </p:nvGrpSpPr>
        <p:grpSpPr>
          <a:xfrm>
            <a:off x="146160" y="4160880"/>
            <a:ext cx="4138560" cy="1947960"/>
            <a:chOff x="146160" y="4160880"/>
            <a:chExt cx="4138560" cy="1947960"/>
          </a:xfrm>
        </p:grpSpPr>
        <p:sp>
          <p:nvSpPr>
            <p:cNvPr id="124" name="AutoShape 27"/>
            <p:cNvSpPr/>
            <p:nvPr/>
          </p:nvSpPr>
          <p:spPr>
            <a:xfrm>
              <a:off x="1645920" y="4160880"/>
              <a:ext cx="2638800" cy="142884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从“商场”到“长途汽车站”是</a:t>
              </a: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和</a:t>
              </a:r>
              <a:r>
                <a:rPr b="0" lang="en-US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公共汽车的相同路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Picture 43" descr="82"/>
            <p:cNvPicPr/>
            <p:nvPr/>
          </p:nvPicPr>
          <p:blipFill>
            <a:blip r:embed="rId4"/>
            <a:stretch/>
          </p:blipFill>
          <p:spPr>
            <a:xfrm>
              <a:off x="146160" y="4307400"/>
              <a:ext cx="1414440" cy="180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圆角矩形标注 25"/>
          <p:cNvSpPr/>
          <p:nvPr/>
        </p:nvSpPr>
        <p:spPr>
          <a:xfrm>
            <a:off x="2771640" y="836640"/>
            <a:ext cx="3456000" cy="863640"/>
          </a:xfrm>
          <a:prstGeom prst="wedgeRoundRectCallout">
            <a:avLst>
              <a:gd name="adj1" fmla="val 70666"/>
              <a:gd name="adj2" fmla="val 15138"/>
              <a:gd name="adj3" fmla="val 16667"/>
            </a:avLst>
          </a:prstGeom>
          <a:solidFill>
            <a:srgbClr val="ff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线路图中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了解到了什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6"/>
          <p:cNvGrpSpPr/>
          <p:nvPr/>
        </p:nvGrpSpPr>
        <p:grpSpPr>
          <a:xfrm>
            <a:off x="4067280" y="3916440"/>
            <a:ext cx="4402080" cy="1822320"/>
            <a:chOff x="4067280" y="3916440"/>
            <a:chExt cx="4402080" cy="1822320"/>
          </a:xfrm>
        </p:grpSpPr>
        <p:pic>
          <p:nvPicPr>
            <p:cNvPr id="131" name="Picture 100" descr="81"/>
            <p:cNvPicPr/>
            <p:nvPr/>
          </p:nvPicPr>
          <p:blipFill>
            <a:blip r:embed="rId1"/>
            <a:stretch/>
          </p:blipFill>
          <p:spPr>
            <a:xfrm>
              <a:off x="7205760" y="393876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27"/>
            <p:cNvSpPr/>
            <p:nvPr/>
          </p:nvSpPr>
          <p:spPr>
            <a:xfrm>
              <a:off x="4067280" y="3916440"/>
              <a:ext cx="2665080" cy="1581840"/>
            </a:xfrm>
            <a:prstGeom prst="wedgeRoundRectCallout">
              <a:avLst>
                <a:gd name="adj1" fmla="val 76120"/>
                <a:gd name="adj2" fmla="val -12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乘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公共汽车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先往西坐一站到商场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再往北坐两站到火车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5"/>
          <p:cNvGrpSpPr/>
          <p:nvPr/>
        </p:nvGrpSpPr>
        <p:grpSpPr>
          <a:xfrm>
            <a:off x="233280" y="2265480"/>
            <a:ext cx="4500720" cy="2747880"/>
            <a:chOff x="233280" y="2265480"/>
            <a:chExt cx="4500720" cy="2747880"/>
          </a:xfrm>
        </p:grpSpPr>
        <p:pic>
          <p:nvPicPr>
            <p:cNvPr id="134" name="Picture 69" descr="80"/>
            <p:cNvPicPr/>
            <p:nvPr/>
          </p:nvPicPr>
          <p:blipFill>
            <a:blip r:embed="rId2"/>
            <a:stretch/>
          </p:blipFill>
          <p:spPr>
            <a:xfrm>
              <a:off x="233280" y="321300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27"/>
            <p:cNvSpPr/>
            <p:nvPr/>
          </p:nvSpPr>
          <p:spPr>
            <a:xfrm>
              <a:off x="1839600" y="2265480"/>
              <a:ext cx="2894400" cy="1530720"/>
            </a:xfrm>
            <a:prstGeom prst="wedgeRoundRectCallout">
              <a:avLst>
                <a:gd name="adj1" fmla="val -65722"/>
                <a:gd name="adj2" fmla="val 260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乘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路公共汽车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先往北坐两站到邮局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再往西坐两站就到了火车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圆角矩形标注 25"/>
          <p:cNvSpPr/>
          <p:nvPr/>
        </p:nvSpPr>
        <p:spPr>
          <a:xfrm>
            <a:off x="3263760" y="1268280"/>
            <a:ext cx="3456000" cy="865440"/>
          </a:xfrm>
          <a:prstGeom prst="wedgeRoundRectCallout">
            <a:avLst>
              <a:gd name="adj1" fmla="val 70666"/>
              <a:gd name="adj2" fmla="val 15138"/>
              <a:gd name="adj3" fmla="val 16667"/>
            </a:avLst>
          </a:prstGeom>
          <a:solidFill>
            <a:srgbClr val="ff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从长途汽车站坐车到火车站，该怎样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5" descr="42"/>
          <p:cNvPicPr/>
          <p:nvPr/>
        </p:nvPicPr>
        <p:blipFill>
          <a:blip r:embed="rId3"/>
          <a:stretch/>
        </p:blipFill>
        <p:spPr>
          <a:xfrm>
            <a:off x="6657840" y="1268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395280" y="43657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1" name="矩形 20"/>
          <p:cNvSpPr/>
          <p:nvPr/>
        </p:nvSpPr>
        <p:spPr>
          <a:xfrm>
            <a:off x="755640" y="1700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是军军从家骑自行车先到商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到图书大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到公园的路线。写出军军从家出发的骑车路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A39.EPS" descr="id:2147500587;FounderCES"/>
          <p:cNvPicPr/>
          <p:nvPr/>
        </p:nvPicPr>
        <p:blipFill>
          <a:blip r:embed="rId2"/>
          <a:stretch/>
        </p:blipFill>
        <p:spPr>
          <a:xfrm>
            <a:off x="3492360" y="2843280"/>
            <a:ext cx="3383280" cy="24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1187280" y="2924280"/>
            <a:ext cx="7056720" cy="9471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述骑车路线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出发点为观测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确定运动的方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确定行走的角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到一个转折点需要重新确定观测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8:06:46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11:10:07Z</dcterms:modified>
  <cp:revision>319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